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14E-EFB3-4954-B69F-7A583B85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A1E-CBC3-4767-9B44-9CEA183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481-3B06-4CA4-B62D-9F4B22AC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FB5-3D8F-4BCC-9406-1ADFC4B5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A9AB-A615-4EF4-B1F4-980C0FE9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091-220F-4217-B6EF-48C1D696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A059-E830-4078-B942-FDA70498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F862-F8C9-4B92-83B6-846260F9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700-DB2A-4C72-B6AC-9FF5FB7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C3F-77F9-4792-B1A0-A4B15565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2DE-8F80-452A-B559-3DEF44E1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BCF-90B9-4327-AE8C-F90A1B7E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ECE7-0B3E-4D70-8808-BE3CD8F36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914400"/>
            <a:ext cx="1600200" cy="6858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0" y="5410080"/>
            <a:ext cx="11430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7543800" y="1599840"/>
            <a:ext cx="0" cy="381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438280"/>
            <a:ext cx="1143000" cy="68580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629400" y="1600200"/>
            <a:ext cx="45720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3124080"/>
            <a:ext cx="685800" cy="21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295280"/>
            <a:ext cx="16002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743200" y="1066680"/>
            <a:ext cx="3809880" cy="4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052720" y="1976040"/>
            <a:ext cx="4665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1371240"/>
            <a:ext cx="3048120" cy="152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3352680"/>
            <a:ext cx="3124080" cy="212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1430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981080"/>
            <a:ext cx="461880" cy="82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7524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4495680"/>
            <a:ext cx="16002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2560" y="3576240"/>
            <a:ext cx="695160" cy="92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257800" y="3119040"/>
            <a:ext cx="685800" cy="138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9528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4255920"/>
            <a:ext cx="1143000" cy="685800"/>
          </a:xfrm>
          <a:prstGeom prst="ellipse">
            <a:avLst/>
          </a:prstGeom>
          <a:solidFill>
            <a:srgbClr val="ff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595160" y="1976040"/>
            <a:ext cx="237960" cy="229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3576600"/>
            <a:ext cx="22860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4724280"/>
            <a:ext cx="4343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14600" y="1519200"/>
            <a:ext cx="4114800" cy="298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5638680"/>
            <a:ext cx="2286000" cy="6858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0400" y="3576600"/>
            <a:ext cx="1440" cy="206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8672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4952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806560"/>
            <a:ext cx="1600200" cy="685800"/>
          </a:xfrm>
          <a:prstGeom prst="ellipse">
            <a:avLst/>
          </a:prstGeom>
          <a:solidFill>
            <a:srgbClr val="2300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3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2805120"/>
            <a:ext cx="1828800" cy="231840"/>
          </a:xfrm>
          <a:prstGeom prst="line">
            <a:avLst/>
          </a:prstGeom>
          <a:ln w="9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1739880"/>
            <a:ext cx="434340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968480"/>
            <a:ext cx="297180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00320" y="380880"/>
            <a:ext cx="65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hado Modules and Their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0T03:04:43Z</dcterms:created>
  <dc:creator>GMOD / NESCent</dc:creator>
  <dc:description/>
  <dc:language>en-US</dc:language>
  <cp:lastModifiedBy>GMOD / NESCent</cp:lastModifiedBy>
  <dcterms:modified xsi:type="dcterms:W3CDTF">2008-07-10T03:07:08Z</dcterms:modified>
  <cp:revision>1</cp:revision>
  <dc:subject/>
  <dc:title>PowerPoint Presentation</dc:title>
</cp:coreProperties>
</file>